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15FE-C2ED-4066-80CC-F7411BBB3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argument wri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raft is a literal reading. Shout out—What do you see literally? Interpret the painting. What does The Surrender say? A strong analysis of the text can lead to a claim. Make a claim about Griffith’s message. What’s important is that the interpretations are supported by very specific reasons. In other words, what is in the painting that leads you to make that cl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e in reading? childhood obesity? Lack of school spir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aphic organizer with the topic in th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ai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it with your own promp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id the shift in language prompts do to affect your thinking and thus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vocabulary or elements of argument showed up in your second wri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you made a list of concerns and on that list was a worry about lack of time. Angela reminded you that you can chunk the mini-units into small pieces. You can tell your students “Let’s get back to this” and they won’t have a problem returning to the topic. We are also offering, in our “Writing into the Day” segment some quick writes. Heather and Terri gave you quick lists and some other quick responses to tex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additional quick ideas for daily argument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shifting your writers’ prompts into prompts for argument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wo sentence starters that will work in your classroo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factors might have been considered when deciding what makes a city a great place to live? (Decide as a group. Make a large group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claim about the livability of your hometown based on one or more of these fact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88BD6-8DC7-403E-A4AA-F211489EA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CDEDF-4E45-4556-840F-E199DCBEF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4E96C-DEA6-4933-B566-8B8EF02F1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22AF7-81C5-4EC6-BFDA-F4E6CFCC3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C585A-733C-4E54-8C67-92C560842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C4DD6-FB73-4DE4-9B86-4E37B0B85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965F0-CF6F-4ED5-893C-2008E3F7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2E06-0B5D-40E4-AECD-8829CA66E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CBC4-8B70-4D6B-9BB6-BFCCFC151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ABDDE-78F3-42CC-83A2-72F33094B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0BDC-E60A-4196-80B5-904CE2F86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3286-C572-424D-A4B3-E3E81D72A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F37A5-91F9-4C5F-9724-2E1D998D6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85800" y="1828800"/>
            <a:ext cx="7924680" cy="2627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133720" y="1143000"/>
            <a:ext cx="4829040" cy="2685960"/>
          </a:xfrm>
          <a:prstGeom prst="rect">
            <a:avLst/>
          </a:prstGeom>
          <a:ln w="0">
            <a:noFill/>
          </a:ln>
        </p:spPr>
      </p:pic>
      <p:sp>
        <p:nvSpPr>
          <p:cNvPr id="67" name=""/>
          <p:cNvSpPr/>
          <p:nvPr/>
        </p:nvSpPr>
        <p:spPr>
          <a:xfrm>
            <a:off x="1371600" y="4419720"/>
            <a:ext cx="6553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371600" y="4191120"/>
            <a:ext cx="64771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claim about the livability of your hometown based on one or more of these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919080"/>
            <a:ext cx="7619760" cy="5019840"/>
          </a:xfrm>
          <a:prstGeom prst="rect">
            <a:avLst/>
          </a:prstGeom>
          <a:ln w="0">
            <a:noFill/>
          </a:ln>
        </p:spPr>
      </p:pic>
      <p:sp>
        <p:nvSpPr>
          <p:cNvPr id="70" name=""/>
          <p:cNvSpPr/>
          <p:nvPr/>
        </p:nvSpPr>
        <p:spPr>
          <a:xfrm>
            <a:off x="762120" y="6164280"/>
            <a:ext cx="754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Griffith’s </a:t>
            </a:r>
            <a:r>
              <a:rPr b="0" i="1" lang="en-US" sz="1800" spc="-1" strike="noStrike">
                <a:solidFill>
                  <a:srgbClr val="000000"/>
                </a:solidFill>
                <a:latin typeface="Arial"/>
              </a:rPr>
              <a:t>The Surr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295280" y="1523880"/>
            <a:ext cx="746784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Who is to blame for _______________?</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the shift</a:t>
            </a:r>
            <a:endParaRPr b="0" lang="en-US" sz="4400" spc="-1" strike="noStrike">
              <a:solidFill>
                <a:srgbClr val="000000"/>
              </a:solidFill>
              <a:latin typeface="Arial"/>
            </a:endParaRPr>
          </a:p>
        </p:txBody>
      </p:sp>
      <p:sp>
        <p:nvSpPr>
          <p:cNvPr id="74" name="PlaceHolder 2"/>
          <p:cNvSpPr>
            <a:spLocks noGrp="1"/>
          </p:cNvSpPr>
          <p:nvPr>
            <p:ph/>
          </p:nvPr>
        </p:nvSpPr>
        <p:spPr>
          <a:xfrm>
            <a:off x="533520" y="2133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hat is your position</a:t>
            </a:r>
            <a:r>
              <a:rPr b="0" lang="en-US" sz="3200" spc="-1" strike="noStrike">
                <a:solidFill>
                  <a:srgbClr val="000000"/>
                </a:solidFill>
                <a:latin typeface="Arial"/>
              </a:rPr>
              <a:t> on writers’ noteboo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the livability of your 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Griffith’s mess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ke a claim</a:t>
            </a:r>
            <a:r>
              <a:rPr b="0" lang="en-US" sz="3200" spc="-1" strike="noStrike">
                <a:solidFill>
                  <a:srgbClr val="000000"/>
                </a:solidFill>
                <a:latin typeface="Arial"/>
              </a:rPr>
              <a:t> about who is to blame.</a:t>
            </a:r>
            <a:endParaRPr b="0" lang="en-US" sz="3200" spc="-1" strike="noStrike">
              <a:solidFill>
                <a:srgbClr val="000000"/>
              </a:solidFill>
              <a:latin typeface="Arial"/>
            </a:endParaRPr>
          </a:p>
        </p:txBody>
      </p:sp>
      <p:pic>
        <p:nvPicPr>
          <p:cNvPr id="75" name="" descr=""/>
          <p:cNvPicPr/>
          <p:nvPr/>
        </p:nvPicPr>
        <p:blipFill>
          <a:blip r:embed="rId1"/>
          <a:stretch/>
        </p:blipFill>
        <p:spPr>
          <a:xfrm>
            <a:off x="4495680" y="22860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871720" y="1305000"/>
            <a:ext cx="3400560" cy="42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90720" y="1066680"/>
            <a:ext cx="7086600" cy="4892760"/>
          </a:xfrm>
          <a:prstGeom prst="rect">
            <a:avLst/>
          </a:prstGeom>
          <a:ln w="0">
            <a:noFill/>
          </a:ln>
        </p:spPr>
      </p:pic>
      <p:sp>
        <p:nvSpPr>
          <p:cNvPr id="50" name=""/>
          <p:cNvSpPr/>
          <p:nvPr/>
        </p:nvSpPr>
        <p:spPr>
          <a:xfrm>
            <a:off x="1447920" y="4419720"/>
            <a:ext cx="6781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you feel about writers’ note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523880" y="1676520"/>
            <a:ext cx="6553440" cy="324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914400" y="914400"/>
            <a:ext cx="7086600" cy="4892760"/>
          </a:xfrm>
          <a:prstGeom prst="rect">
            <a:avLst/>
          </a:prstGeom>
          <a:ln w="0">
            <a:noFill/>
          </a:ln>
        </p:spPr>
      </p:pic>
      <p:sp>
        <p:nvSpPr>
          <p:cNvPr id="53" name=""/>
          <p:cNvSpPr/>
          <p:nvPr/>
        </p:nvSpPr>
        <p:spPr>
          <a:xfrm>
            <a:off x="2133720" y="4038480"/>
            <a:ext cx="62481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your position on writers’ noteboo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304920" y="1371600"/>
            <a:ext cx="4952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feel about writers’ noteboo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position on writers’ notebooks?</a:t>
            </a:r>
            <a:endParaRPr b="0" lang="en-US" sz="3200" spc="-1" strike="noStrike">
              <a:solidFill>
                <a:srgbClr val="000000"/>
              </a:solidFill>
              <a:latin typeface="Arial"/>
            </a:endParaRPr>
          </a:p>
        </p:txBody>
      </p:sp>
      <p:pic>
        <p:nvPicPr>
          <p:cNvPr id="56" name="" descr=""/>
          <p:cNvPicPr/>
          <p:nvPr/>
        </p:nvPicPr>
        <p:blipFill>
          <a:blip r:embed="rId1"/>
          <a:stretch/>
        </p:blipFill>
        <p:spPr>
          <a:xfrm>
            <a:off x="5410080" y="236232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057400" y="914400"/>
            <a:ext cx="5329080" cy="470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80880"/>
            <a:ext cx="9067680" cy="601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Best/ 5 Wors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delaide, Austral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ronto,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ancouver,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ienna, Austr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elbourne,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Best                5 Wors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delaide, Austral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ronto,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Vancouver, Canad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ienna, Austri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Melbourne,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6. Karachi, Pakista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7. Tripoli, Libya</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 Doula, Cameroo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9. Tehran, Iran</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 Damascus, Syria</a:t>
            </a:r>
            <a:endParaRPr b="0" lang="en-US" sz="2800" spc="-1" strike="noStrike">
              <a:solidFill>
                <a:srgbClr val="000000"/>
              </a:solidFill>
              <a:latin typeface="Arial"/>
            </a:endParaRPr>
          </a:p>
        </p:txBody>
      </p:sp>
      <p:sp>
        <p:nvSpPr>
          <p:cNvPr id="65" name=""/>
          <p:cNvSpPr/>
          <p:nvPr/>
        </p:nvSpPr>
        <p:spPr>
          <a:xfrm>
            <a:off x="609480" y="579132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st Intelligence Unit’s 2013 Liveability Ran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31T02:08:08Z</dcterms:created>
  <dc:creator>Colleen</dc:creator>
  <dc:description/>
  <dc:language>en-US</dc:language>
  <cp:lastModifiedBy>Colleen</cp:lastModifiedBy>
  <dcterms:modified xsi:type="dcterms:W3CDTF">2014-07-31T04:01:24Z</dcterms:modified>
  <cp:revision>6</cp:revision>
  <dc:subject/>
  <dc:title>Slide 1</dc:title>
</cp:coreProperties>
</file>